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CA7-BDE7-411F-91EB-1BD5290C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1346-E945-4371-971E-8D6C4C88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0125-6252-4846-BA56-2E46B6D5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AD3-99F0-4B24-BD0F-7CCDC373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6C10-ACEA-4D08-AE57-430A7BBF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0975-0B31-4F8F-9CBF-B079176F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43A-D003-49DC-A101-1ECF1F8C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AF5E-4221-4444-9CB2-523A4A56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3085-6F11-4042-8DCA-54645399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7E0C-4D32-4674-996E-C672F0CD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3018-BAC1-4565-A93F-B2CCDEEE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DCD2-65F1-44E5-8640-C8345F7D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EB6B-1181-484E-B84B-FFF4AAD92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91520" cy="6012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52280"/>
            <a:ext cx="7010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earch Proces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10666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1219320"/>
            <a:ext cx="2057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3048120"/>
            <a:ext cx="2514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45720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2767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2971800"/>
            <a:ext cx="1676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808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04920"/>
            <a:ext cx="213336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4114800"/>
            <a:ext cx="312408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48006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724280"/>
            <a:ext cx="2286000" cy="129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2:49:48Z</dcterms:created>
  <dc:creator>testteacher</dc:creator>
  <dc:description/>
  <dc:language>en-US</dc:language>
  <cp:lastModifiedBy>testteacher</cp:lastModifiedBy>
  <dcterms:modified xsi:type="dcterms:W3CDTF">2008-10-10T12:58:41Z</dcterms:modified>
  <cp:revision>1</cp:revision>
  <dc:subject/>
  <dc:title>Slide 1</dc:title>
</cp:coreProperties>
</file>